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EA56-CC2A-4A0E-B11A-F718A2FBE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33EB-FA03-4E8B-8C61-9AF0D49B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F2EB-2A81-4397-922F-E8ECEAF1E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F864-331E-41D4-BD70-EC04B5923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FBEB-2E15-4734-827E-73E8CF46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8F50-8359-4D60-B04A-92F665C6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56C3-97C6-46F7-9CF3-C23AE351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1F52-2953-4D71-8226-2B1BD008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5398-F8EC-4C5D-BBA9-5CE6DDE0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C3E0-67A0-4563-A962-54DAF0AF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A12A-2629-4BFB-97BB-1582D313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B059-AEBB-426B-936D-006DEA7E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4926-6292-4C6C-906B-92A2161C9B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7080" y="2133720"/>
            <a:ext cx="7122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Crude vs Adjusted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Estimat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1600200" y="1428840"/>
            <a:ext cx="624852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1371600" y="1600200"/>
            <a:ext cx="64771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1600200" y="1523880"/>
            <a:ext cx="6248520" cy="3857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05120" y="3429000"/>
            <a:ext cx="56386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17887"/>
          <a:stretch/>
        </p:blipFill>
        <p:spPr>
          <a:xfrm>
            <a:off x="1371600" y="1752480"/>
            <a:ext cx="6324480" cy="3921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76520" y="3657600"/>
            <a:ext cx="563868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1523880" y="1371600"/>
            <a:ext cx="678204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600200" y="1295280"/>
            <a:ext cx="6400800" cy="43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447920" y="1523880"/>
            <a:ext cx="601956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1600200" y="1447920"/>
            <a:ext cx="601992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1828800" y="1501920"/>
            <a:ext cx="609588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70872"/>
          <a:stretch/>
        </p:blipFill>
        <p:spPr>
          <a:xfrm>
            <a:off x="1905120" y="2362320"/>
            <a:ext cx="5715000" cy="19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8449"/>
          <a:stretch/>
        </p:blipFill>
        <p:spPr>
          <a:xfrm>
            <a:off x="1752480" y="1295280"/>
            <a:ext cx="5639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42721"/>
          <a:stretch/>
        </p:blipFill>
        <p:spPr>
          <a:xfrm>
            <a:off x="1752480" y="3200400"/>
            <a:ext cx="5639040" cy="2438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rcRect l="0" t="0" r="0" b="70872"/>
          <a:stretch/>
        </p:blipFill>
        <p:spPr>
          <a:xfrm>
            <a:off x="1752480" y="1447920"/>
            <a:ext cx="5639040" cy="18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70872"/>
          <a:stretch/>
        </p:blipFill>
        <p:spPr>
          <a:xfrm>
            <a:off x="1523880" y="1219320"/>
            <a:ext cx="5715000" cy="1257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rcRect l="0" t="2178" r="0" b="15233"/>
          <a:stretch/>
        </p:blipFill>
        <p:spPr>
          <a:xfrm>
            <a:off x="1523880" y="2438280"/>
            <a:ext cx="5715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0" b="23507"/>
          <a:stretch/>
        </p:blipFill>
        <p:spPr>
          <a:xfrm>
            <a:off x="1447920" y="1676520"/>
            <a:ext cx="6095880" cy="35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600200" y="1341360"/>
            <a:ext cx="579132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0" r="0" b="26161"/>
          <a:stretch/>
        </p:blipFill>
        <p:spPr>
          <a:xfrm>
            <a:off x="1600200" y="1447920"/>
            <a:ext cx="60958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219320" y="1143000"/>
            <a:ext cx="678168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26161"/>
          <a:stretch/>
        </p:blipFill>
        <p:spPr>
          <a:xfrm>
            <a:off x="1066680" y="1295280"/>
            <a:ext cx="723924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371600" y="1290600"/>
            <a:ext cx="632448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295280" y="1447920"/>
            <a:ext cx="640080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1219320" y="1447920"/>
            <a:ext cx="647676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447920" y="1295280"/>
            <a:ext cx="62481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295280" y="1295280"/>
            <a:ext cx="64008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8T17:37:18Z</dcterms:modified>
  <cp:revision>216</cp:revision>
  <dc:subject/>
  <dc:title>Slide 1</dc:title>
</cp:coreProperties>
</file>